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E0C-CA2A-47D4-8AAE-CBA2A90F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B79-DE84-41BC-9D35-9EF6E7A5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E80-98D7-46B8-B835-9D2A752B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B3F-F58B-4B07-8E08-13029F10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46B9-7FC9-4177-BC0A-711C1801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8FE5-260C-4164-96A4-9ED42A7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E4D5-B2D6-427D-BFFE-171BD13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E425-0D7F-4522-B741-221EBB5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5A90-E0F3-4D7F-9DA5-E21903D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33D0-CC23-45D5-9E33-C46C422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C412-892F-4259-97FA-51CBBE4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3E3-88E1-4C9B-B90A-E9FA26C6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3226-F3F2-4D06-9BC1-C4C017DE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DBE0-50BA-48E9-A7AA-0155018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46EB-22FE-4B13-A4DE-2002DF84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2775-063F-4DFC-8ED9-D2E46743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F0E3-A786-4C35-8AFE-A85C579B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324E-908C-4AEE-9E20-BC45BE88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C439-45DF-4B07-ABA4-0BCA8957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3946-0566-4467-A27A-3E9A71B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CE5E-88BB-4576-8B1A-F2C0C0D3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33E7-B516-4C8E-877E-E025538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F39-EFAC-4745-A351-B81922B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9F2C-CB1D-4C11-99F7-C986B874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6675-BE6E-4060-97C9-5D6A64E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FE6E-65BB-4DBF-B8C3-51D1FF7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E7C6-265C-43C0-91F3-EC4E82B2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5801-800E-463A-9706-F37275CA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C9D3-39EF-43EB-A95E-AF19454A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4285-4D41-4C3D-A381-DF80EE0B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5A1-42AA-4606-B39F-531E5AC4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940-3EBF-4D7C-9577-3302BFCB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FEE-0DD5-4CAC-BA46-62D70E70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9E1-DBF4-48BC-9287-2193A288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C6B-D5B8-443A-A93E-A0D9851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4CA-4C67-464F-AC11-C1654B90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8B34-8199-4045-B899-74CCDED9766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A85-A472-4D2C-B184-7E7685CE407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6285-5704-4CBD-A920-DA063B08E0D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Дистанционное обучение как технология оптимизации образовательного процесса в начальной школе</a:t>
            </a:r>
            <a:br>
              <a:rPr sz="3600"/>
            </a:b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240" y="3555720"/>
            <a:ext cx="752148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МБОУ «Сузунская СОШ № 1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Примачёк М.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ако слов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из данных слов: тетрадка, книга, тетрадь, мышь, окно, школа, улица, пенал выписать имена существительные 1 склон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тетрадка, книга, школа, улиц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задание используется при изучении темы «Склонение имен существительных» на уроках Развивающего контроля,  на этапе - Актуализация знаний и фиксирование затруднений в деятельности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360" name="Объект 3" descr="D:\Рабочий стол\курсы овз 2017\Word Art 1.png"/>
          <p:cNvPicPr/>
          <p:nvPr/>
        </p:nvPicPr>
        <p:blipFill>
          <a:blip r:embed="rId1"/>
          <a:stretch/>
        </p:blipFill>
        <p:spPr>
          <a:xfrm>
            <a:off x="3132000" y="2637000"/>
            <a:ext cx="35276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график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учении темы «Второстепенные члены предложения» данную инфографику можно использовать и на этапе изучения новой темы, и на этапе закрепления.</a:t>
            </a:r>
            <a:br>
              <a:rPr sz="2400"/>
            </a:b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362" name="Picture 2" descr="C:\Users\Admin\Downloads\prilozhenie-kak-podcherkivaetsya-v-predlozhenii.jpg"/>
          <p:cNvPicPr/>
          <p:nvPr/>
        </p:nvPicPr>
        <p:blipFill>
          <a:blip r:embed="rId1"/>
          <a:srcRect l="0" t="0" r="0" b="14765"/>
          <a:stretch/>
        </p:blipFill>
        <p:spPr>
          <a:xfrm>
            <a:off x="447840" y="1592280"/>
            <a:ext cx="79405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Объект 5" descr="D:\Рабочий стол\qr-code (1).gif..gif"/>
          <p:cNvPicPr/>
          <p:nvPr/>
        </p:nvPicPr>
        <p:blipFill>
          <a:blip r:embed="rId1"/>
          <a:stretch/>
        </p:blipFill>
        <p:spPr>
          <a:xfrm>
            <a:off x="7164360" y="63360"/>
            <a:ext cx="1725480" cy="163692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"/>
          <p:cNvSpPr/>
          <p:nvPr/>
        </p:nvSpPr>
        <p:spPr>
          <a:xfrm>
            <a:off x="2416320" y="6336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R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одов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250920" y="431640"/>
            <a:ext cx="69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задание можно использовать на уроках систематизации знаний, уроке рефлексии, уроке открытия новых знаний, обретения новых знаний и умений на этапе самостоятельной работы с проверкой и взаимопроверкой по эталону после выполнения задания типа: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250920" y="2421000"/>
            <a:ext cx="863892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ип склонения данных существительных, записать слова 1 скл . учащимся 1 ряда, 2 ряда – слова 2 скл,, 3 ряда – слова 3 скл. и проверить, опираясь 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.( дана таблица склонения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: мышь, слон, капуста, полотенце, книга, мороз, дядя, стол, кирпич, дочь, пенал, тишь.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кл: капуста, дядя, книга; так как эти слова м. р. и ж. р. с  окончанием-а, -я;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кл.: слон, полотенце, мороз, стол, кирпич, пенал; так как ср. р. с окончаниями -0, -е и м. р. с нулевым окончание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кл.: мышь, дочь, тишь; так как эти слова ж. р. с мягким знаком на конце.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сти взаимопроверку по 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QR - </a:t>
            </a: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коду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324000" y="33336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Преимущества использования ДОТ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ет пространственных и временных ограничений, оно доступно для заинтересованных обучающихся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ОТ обеспечивают здоровьесберегающую обстановку при обучении в удобное время и в посильном режиме (с учётом ограничения во времени)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льтернативное обучение: оно расширяет выбор форм и методов обучения, помимо принятых в классной системе обучения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ополнительное образование: углубляет и расширяет знания при подготовке к выступлению или к участию в олимпиадах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емократичное и креативное образование: нет жесткого регламента, каждому обучающемуся уделяется особое внимание, поддерживается его интерес, его мотивация к самообразованию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4460760" y="189000"/>
            <a:ext cx="450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Достижение высоких образовательных результатов каждым учеником возможно при решении задачи оптимального сочетания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69" name="Picture 2" descr="http://npgt.ru/images/%D0%9D%D0%BE%D0%B2%D0%BE%D1%81%D1%82%D0%B8/2017/edinyi_yrok/img21.jpg"/>
          <p:cNvPicPr/>
          <p:nvPr/>
        </p:nvPicPr>
        <p:blipFill>
          <a:blip r:embed="rId1"/>
          <a:srcRect l="6425" t="8100" r="6370" b="7291"/>
          <a:stretch/>
        </p:blipFill>
        <p:spPr>
          <a:xfrm>
            <a:off x="270000" y="19080"/>
            <a:ext cx="4190760" cy="30495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345960" y="3284640"/>
            <a:ext cx="863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овых информационно-коммуникативных технологий и электронных учебно-методических комплексов, цифровых технологий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нообразных форм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ребований стандарта и индивидуальных способностей учащихся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эмоционально-психологической комфортности и интенсивной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324000" y="856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alatino Linotype"/>
              </a:rPr>
              <a:t>Дистанционные образовательные технологии имеют как положительные, так и отрицательные стороны их применения: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Прямоугольник 2"/>
          <p:cNvSpPr/>
          <p:nvPr/>
        </p:nvSpPr>
        <p:spPr>
          <a:xfrm>
            <a:off x="108000" y="793800"/>
            <a:ext cx="878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Основа обучения – самостоятельное усвоение знаний. Не все учащиеся владеют навыками самообразования, что требует дополнительного контроля со стороны учителя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еумения правильно организовать свою учебную работу, распределит учебное время и изучаемый материал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еобходимость проверки знаний зачастую в очном режиме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ля учащихся, имеющихся проблемы со здоровьем исключение «живого» контакта с преподавателями является отрицательным моментом, так как довольно часто это единственная связь с внешним миром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Дорогостоящее оборудование, для организации дистанционного обучения (ПК, ноутбук, выход в интернет и т.д.), которое не все себе могут позволить приобрести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ttp://detsad386samara.ru/wa-data/public/site/img/19541895.jpg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3"/>
          <p:cNvSpPr/>
          <p:nvPr/>
        </p:nvSpPr>
        <p:spPr>
          <a:xfrm>
            <a:off x="4500720" y="404640"/>
            <a:ext cx="439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«Это невозможно!» –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сказала Причина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«Это безрассудство!» –  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заметил Опыт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«Это бесполезно!» –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отрезала Гордость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«Попробуй…» –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Palatino Linotype"/>
              </a:rPr>
              <a:t>шепнула Мечта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35" name="Picture 2" descr="http://www.ds-solnyshko.su/upload/iblock/6f4/sdsh.png"/>
          <p:cNvPicPr/>
          <p:nvPr/>
        </p:nvPicPr>
        <p:blipFill>
          <a:blip r:embed="rId1"/>
          <a:stretch/>
        </p:blipFill>
        <p:spPr>
          <a:xfrm>
            <a:off x="23760" y="-128520"/>
            <a:ext cx="5754600" cy="4470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3584520" y="3517920"/>
            <a:ext cx="393228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3"/>
          <p:cNvSpPr/>
          <p:nvPr/>
        </p:nvSpPr>
        <p:spPr>
          <a:xfrm>
            <a:off x="428760" y="189000"/>
            <a:ext cx="8358120" cy="43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e2aa"/>
              </a:gs>
              <a:gs pos="100000">
                <a:srgbClr val="eff7e8"/>
              </a:gs>
            </a:gsLst>
            <a:lin ang="16200000"/>
          </a:gradFill>
          <a:ln w="9360">
            <a:solidFill>
              <a:srgbClr val="61881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28400" y="356760"/>
            <a:ext cx="853596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182c4b"/>
                </a:solidFill>
                <a:latin typeface="Times New Roman"/>
                <a:ea typeface="Times New Roman"/>
              </a:rPr>
              <a:t>ФГОС предусматривает реализацию государственной политики в образовании, обеспечивающей равенство и доступность образования при различных стартовых возможностях, сохранение единства образовательного пространства Росси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2c4b"/>
                </a:solidFill>
                <a:latin typeface="Times New Roman"/>
                <a:ea typeface="Times New Roman"/>
              </a:rPr>
              <a:t>Решить проблемы обеспечения равных возможностей для  получения качественного общего образования, весомо дополнить и расширить традиционные формы организации общего образования позволит широкое использование обучения с использованием дистанционных образовательных технологи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339" name="Picture 15" descr=""/>
          <p:cNvPicPr/>
          <p:nvPr/>
        </p:nvPicPr>
        <p:blipFill>
          <a:blip r:embed="rId1"/>
          <a:stretch/>
        </p:blipFill>
        <p:spPr>
          <a:xfrm>
            <a:off x="4859280" y="4357800"/>
            <a:ext cx="3025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Скругленный прямоугольник 3"/>
          <p:cNvGrpSpPr/>
          <p:nvPr/>
        </p:nvGrpSpPr>
        <p:grpSpPr>
          <a:xfrm>
            <a:off x="420840" y="255600"/>
            <a:ext cx="8594640" cy="2517840"/>
            <a:chOff x="420840" y="255600"/>
            <a:chExt cx="8594640" cy="2517840"/>
          </a:xfrm>
        </p:grpSpPr>
        <p:pic>
          <p:nvPicPr>
            <p:cNvPr id="34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20840" y="255600"/>
              <a:ext cx="859464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85720" y="403200"/>
              <a:ext cx="8259840" cy="21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85480" y="213840"/>
            <a:ext cx="8643960" cy="27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танционные образовательные технологии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технологии, реализуемые в основном с применением информационных и телекоммуникационных технологий при опосредованном (на расстоянии) или не полностью опосредованном взаимодействии обучающегося и педагогического работник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344" name="Picture 2" descr="https://i3vestno.ru/media/uploads/2020/4/innovatsii.jpeg"/>
          <p:cNvPicPr/>
          <p:nvPr/>
        </p:nvPicPr>
        <p:blipFill>
          <a:blip r:embed="rId2"/>
          <a:stretch/>
        </p:blipFill>
        <p:spPr>
          <a:xfrm>
            <a:off x="1762200" y="2924280"/>
            <a:ext cx="59068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60339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образовательным технологиям,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риспособленным для использования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истанционном обучении, относятся: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564000" y="1197000"/>
            <a:ext cx="5184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490320" indent="-188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льтимедиа-лекции и лабораторные практикумы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90320" indent="-188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онные мультимедийные учебники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90320" indent="-188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ьютерные обучающие и тестирующие системы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90320" indent="-188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итационные модели и компьютерные тренажеры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90320" indent="-188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ультации и тесты с использованием телекоммуникационных средств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90320" indent="-188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еоконферен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90320" indent="-188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ео-ле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226080" indent="-226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347" name="Picture 2" descr="https://artschool-samara.ru/news/data/upimages/semennov/5.jpg"/>
          <p:cNvPicPr/>
          <p:nvPr/>
        </p:nvPicPr>
        <p:blipFill>
          <a:blip r:embed="rId1"/>
          <a:stretch/>
        </p:blipFill>
        <p:spPr>
          <a:xfrm>
            <a:off x="17640" y="33480"/>
            <a:ext cx="3035160" cy="3035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https://c1543.c.3072.ru/pluginfile.php/6262/course/overviewfiles/detjam.png"/>
          <p:cNvPicPr/>
          <p:nvPr/>
        </p:nvPicPr>
        <p:blipFill>
          <a:blip r:embed="rId2"/>
          <a:stretch/>
        </p:blipFill>
        <p:spPr>
          <a:xfrm>
            <a:off x="68400" y="3102120"/>
            <a:ext cx="40543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0" y="692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обучение в индивидуальном темпе — скорость изучения устанавливается самим учащимся в зависимости от его личных обстоятельств и потребностей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вобода и гибкость — учащийся может самостоятельно планировать время, место и продолжительность занятий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обильность — эффективная реализация обратной связи между преподавателем и обучаемым является одним из основных требований и оснований успешности процесса обучения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ехнологичность — использование в образовательном процессе новейших достижений информационных и теле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творчество — комфортные условия для творческого самовыражения обучаемого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грузка учителя (меньше времени уходит на проверку и оценивание работ учащихся)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3249360" y="61920"/>
            <a:ext cx="26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ПЛЮСЫ ДО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539640" y="33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Применение форм дистанционного обучения рассчитано на работу с обучающимися разных категорий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396000" y="1514520"/>
            <a:ext cx="5121360" cy="459720"/>
          </a:xfrm>
          <a:prstGeom prst="rect">
            <a:avLst/>
          </a:prstGeom>
          <a:gradFill rotWithShape="0">
            <a:gsLst>
              <a:gs pos="0">
                <a:srgbClr val="c5e2aa"/>
              </a:gs>
              <a:gs pos="100000">
                <a:srgbClr val="eff7e8"/>
              </a:gs>
            </a:gsLst>
            <a:lin ang="16200000"/>
          </a:gradFill>
          <a:ln w="9360">
            <a:solidFill>
              <a:srgbClr val="61881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работа с обучающимися с ОВЗ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3734640" y="2003400"/>
            <a:ext cx="5318280" cy="459720"/>
          </a:xfrm>
          <a:prstGeom prst="rect">
            <a:avLst/>
          </a:prstGeom>
          <a:gradFill rotWithShape="0">
            <a:gsLst>
              <a:gs pos="0">
                <a:srgbClr val="ffb987"/>
              </a:gs>
              <a:gs pos="100000">
                <a:srgbClr val="ffeadc"/>
              </a:gs>
            </a:gsLst>
            <a:lin ang="16200000"/>
          </a:gradFill>
          <a:ln w="9360">
            <a:solidFill>
              <a:srgbClr val="e6811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оррекция знаний обучающихся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581760" y="2465280"/>
            <a:ext cx="4749840" cy="459720"/>
          </a:xfrm>
          <a:prstGeom prst="rect">
            <a:avLst/>
          </a:prstGeom>
          <a:gradFill rotWithShape="0">
            <a:gsLst>
              <a:gs pos="0">
                <a:srgbClr val="acbbf6"/>
              </a:gs>
              <a:gs pos="100000">
                <a:srgbClr val="e8ecfd"/>
              </a:gs>
            </a:gsLst>
            <a:lin ang="16200000"/>
          </a:gradFill>
          <a:ln w="9360">
            <a:solidFill>
              <a:srgbClr val="5c72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бота с одарёнными детьм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55" name="Picture 4" descr="http://ckd-u.kamch.muzkult.ru/media/2019/08/24/1264542486/articles_1443093287__original.jpg"/>
          <p:cNvPicPr/>
          <p:nvPr/>
        </p:nvPicPr>
        <p:blipFill>
          <a:blip r:embed="rId1"/>
          <a:stretch/>
        </p:blipFill>
        <p:spPr>
          <a:xfrm>
            <a:off x="1619280" y="3137040"/>
            <a:ext cx="62722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324000" y="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alatino Linotype"/>
              </a:rPr>
              <a:t>Примеры использования образовательных веб-сервисов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8000" y="399960"/>
          <a:ext cx="8856720" cy="6458040"/>
        </p:xfrm>
        <a:graphic>
          <a:graphicData uri="http://schemas.openxmlformats.org/drawingml/2006/table">
            <a:tbl>
              <a:tblPr/>
              <a:tblGrid>
                <a:gridCol w="2627280"/>
                <a:gridCol w="6229440"/>
              </a:tblGrid>
              <a:tr h="11556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еб-сервис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Использован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learningapps.org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нтерактивных образовательных тренажё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</a:tr>
              <a:tr h="95796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derscribe.net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ентальных карт (карт знаний), организация «Мозгового штурм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91512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://www.imagechef.com/ic/word_mosa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облака ключевых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</a:tr>
              <a:tr h="63864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nimate.com/video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видеороликов и мультфиль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63864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gle 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тестов и анкет (в т. ч. для родител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</a:tr>
              <a:tr h="63864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gle - табл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работа по созданию таблиц и работы с информа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64008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gle - през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совместное редактирование презент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</a:tr>
              <a:tr h="127476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R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диняет реальные параметры с виртуальными и может использоваться не только в электронном в виде, но и в формате раздаточного материа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395280" y="260280"/>
          <a:ext cx="8497800" cy="5791320"/>
        </p:xfrm>
        <a:graphic>
          <a:graphicData uri="http://schemas.openxmlformats.org/drawingml/2006/table">
            <a:tbl>
              <a:tblPr/>
              <a:tblGrid>
                <a:gridCol w="2232000"/>
                <a:gridCol w="6265800"/>
              </a:tblGrid>
              <a:tr h="122004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тор  тестов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lin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ет без труда создать свой мини-сайт, разработать тесты, кроссворды и др., разместить свои материалы и КИМы коллег. Служит для организаци подготовки учеников к контрольным работам и ГИА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</a:tr>
              <a:tr h="91512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чи.ру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отечественная онлайн-платформа, где ученики из всех регионов России изучают школьные предметы в интерактивной форм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122004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Якласс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ый интернет портал для школьников. учителей и родителей. Этот своеобразный журнал учителя, который позволяет проводить тестирования знаний ребенка удален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</a:tr>
              <a:tr h="152496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edu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 огромное количество тестов для начальной, основной и средней школы. Все тесты интерактивные, учителю не надо проверять результаты, компьютер сделает это сам и выдаст процент правильно решенных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915120"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у В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портал для подготовки к экзаменам, содержит задания для подготовки к ВПР с решен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26280" marR="26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13:58:46Z</dcterms:created>
  <dc:creator>Олег</dc:creator>
  <dc:description/>
  <dc:language>en-US</dc:language>
  <cp:lastModifiedBy>User</cp:lastModifiedBy>
  <dcterms:modified xsi:type="dcterms:W3CDTF">2020-08-24T23:52:11Z</dcterms:modified>
  <cp:revision>5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93013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